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BF6F-8E31-4D47-8048-F4CB67E2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9298-0088-4395-8DFE-81EAA903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2814-DBA4-471E-8A75-3B24B08D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EE88-E94D-4A28-A8B3-7C3164D3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AE7F-2C57-4BD1-A279-2D0536DB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6627-DCF9-4726-B39B-BA1E9A93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EB81-65A1-4DB5-B41C-AF8893E0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3BEE-124A-4395-9505-1D730760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C1DC-00BA-4180-A050-94EF3EA5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5C41-F8BA-4899-AF3D-DD9D2807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FC22-8723-4EF6-B154-E7BF0F6C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96BE-31D0-46CA-BB9D-615E0DAD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98D3-8DAC-42DF-848C-A91F3B9FC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6 Buď Pánu Bohu vďa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Pánu Bohu vďaka, č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 sláva na výs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radostnú nám poslal zv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 svojej láskav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ám v Kristovi sa prizná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ruku spásy podá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večne vyvýšen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Ježiš Kristus, Boží Sy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mocný Vykup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z bahna hriechu, jarma ví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s vyslobodiť priši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naša Obeť, Kňaz i Chr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Cesta, Pravda, Život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večnú spásu má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 Svätý, pravdy Učite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poľahlivý Radc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v kríži pravý Teš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r zoslaný od Otc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 nami je vždy, v každý č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mocou svojou vedie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slávy z poníženi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8:46:23Z</dcterms:modified>
  <cp:revision>19</cp:revision>
  <dc:subject/>
  <dc:title>Je veľký náš Pán, on slávy je Kráľ Nech do všetkých strán  spev vrúcnych znie chvál.</dc:title>
</cp:coreProperties>
</file>